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3333cc"/>
                </a:solidFill>
                <a:uFillTx/>
                <a:latin typeface="Garamon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 u="sng">
                <a:solidFill>
                  <a:srgbClr val="3333cc"/>
                </a:solidFill>
                <a:uFillTx/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3333cc"/>
                </a:solidFill>
                <a:uFillTx/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 u="sng">
                <a:solidFill>
                  <a:srgbClr val="3333cc"/>
                </a:solidFill>
                <a:uFillTx/>
                <a:latin typeface="Garamond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3333cc"/>
                </a:solidFill>
                <a:uFillTx/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 u="sng">
                <a:solidFill>
                  <a:srgbClr val="3333cc"/>
                </a:solidFill>
                <a:uFillTx/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5349-7F1F-4489-9D14-D44EF12F6E49}" type="slidenum">
              <a:rPr b="0" lang="it-IT" sz="1200" spc="-1" strike="noStrike" u="sng">
                <a:solidFill>
                  <a:srgbClr val="3333cc"/>
                </a:solidFill>
                <a:uFillTx/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0292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bibliografia di un articolo permette importanti valutazioni sul merito 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alità dello stes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na buona modalità di citazione  indica già un autore esper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istono poi altre caratteristiche che sono indubbiamente segni di accuratezz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pletezza e valore dello st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ali caratteristiche delle fonti bibliografiche sono elementi che permettono 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conoscere la qualità della bibliograf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bibliografia di un buon articolo dovrebbe possederle tut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d esempio, in ambito nefrologico una fonte classica potrebbe ess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nsiderata una pubblicazione dell'ANNA (America Nefhrology Nurs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ssociation). Il Core Curriculum dell’ANNA, in particolare, pur non esse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centissimo, è sempre un testo di grande va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fonti primarie sono le più idonee, ma in mancanza di esse possono and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ene anche quelle secondarie. Attenzione però di non fingere di aver us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na fonte primaria se non è vero. Generalmente è facile per un es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"smascherare” l'uso di una fonte secondaria come se fosse prima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olti libri o articoli non sono facilmente disponibili in Italia, soprattut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lli meno recenti, per cui è meglio dichiarare l’effettivo testo us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'avvento di Internet permette però l'acquisto di articoli e testi dirett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all'est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vastità della bibliografia utilizzata deve essere proporzionale all'import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llo studio, al prestigio dell'autore e della rivista su cui è pubblicato l'artico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erto un numero minimo di fonti (10-20) è indispensabile, ma in genere 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aggiormente valutata la qualità della quantità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gni settore del nursing ha i suoi autori e riviste di prestig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d esempio per l'ambito nefrologico le pubblicazioni dell'ANNA a liv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ondiale e dell'EDTNA-ERCA a livello europeo, con i loro rappresenta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ù prestigio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ù in generale, citare Paola DiGiulio o l'ex "La Rivista dell'Infermiere"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talia è sicuramente segno di valore del'artico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sì nel mondo è riconosciuto che una delle riviste infermieristiche pi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restigiose è il Journal of Advanced Nur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nche per le case editrici si preferiscono quelle con maggiore esperi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cennale di letteratura infermieristica, con un vasto catalogo specifico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nur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na buona bibliografia abbina più fon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esti offrono le definizioni generali; gli articoli le acquisizioni più recent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'uso di Internet permette una panoramica globale dell'argomento tratta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 essere sicuri di non avere dimenticato nulla ed essere sempre aggiorn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genere si seguono modalità "accreditate" per elencare le fonti utilizz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lle previste da Index Medicus, ad esempio, sono molto valide. In pratic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 gli articoli tratti da riviste, si tratta di riprodurre la modalità present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le schermate degli Index informati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80C-55F5-4B81-AF2D-A0AAF93E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38DC-2DA4-4E27-85E5-AFFE47C7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48A-44C9-4BB7-A88A-4232C107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783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426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783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426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DC6-6447-4F50-A89D-83D98177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E7EE-30F9-40A8-9F43-2030623E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0554-BEA5-493C-8423-5F6D6732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1029-3F6E-4082-9490-2F95691A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A834-32E8-470A-8FE5-13370492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CC4F-7FC9-4E2A-B940-556C7B4F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6AB7-91DC-4D65-95BD-551CC5E4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0A10-257F-4030-895B-F4C42A79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3876-148D-4F09-96CE-7305178D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5EDA-B673-4278-B3F0-E8C9FA17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337A-711C-4341-BF15-381AFEFD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6C47-C55F-4104-AEA1-403F31A5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00DE-544F-445E-AAEC-56941AF3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783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26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783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426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2953-FB7B-4E35-BF11-3E2BE65D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856-7D0D-452C-AEC6-C2E116A3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AED-8A5D-4DE6-BA89-A56C84D5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040-DB74-4BB5-8583-40027DB8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8D5-3F11-4C6D-B921-51E42B11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E53-1B47-45AC-B967-092EFC59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3DA-2457-4F5F-87CA-7AD7A6DB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A73-B106-4744-A973-8A5453FC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ccff66"/>
              </a:gs>
              <a:gs pos="100000">
                <a:srgbClr val="00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BFBA-A3E7-45BD-A996-6BCE60A8E9E5}" type="datetime">
              <a:rPr b="0" lang="it-IT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1F3F-AB96-4711-94BE-1FEBD005F1E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ccff66"/>
              </a:gs>
              <a:gs pos="100000">
                <a:srgbClr val="00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623E-09CF-47AE-9134-BAA1ED45B810}" type="datetime">
              <a:rPr b="0" lang="it-IT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1A24-4CDE-44E8-9375-3D8C189964D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600" spc="-1" strike="noStrike">
                <a:solidFill>
                  <a:srgbClr val="003300"/>
                </a:solidFill>
                <a:latin typeface="Tahoma"/>
              </a:rPr>
              <a:t>La bibliografia</a:t>
            </a:r>
            <a:br>
              <a:rPr sz="6600"/>
            </a:br>
            <a:r>
              <a:rPr b="1" lang="it-IT" sz="6600" spc="-1" strike="noStrike">
                <a:solidFill>
                  <a:srgbClr val="003300"/>
                </a:solidFill>
                <a:latin typeface="Tahoma"/>
              </a:rPr>
              <a:t>di un articolo</a:t>
            </a:r>
            <a:br>
              <a:rPr sz="6600"/>
            </a:br>
            <a:r>
              <a:rPr b="1" lang="it-IT" sz="6600" spc="-1" strike="noStrike">
                <a:solidFill>
                  <a:srgbClr val="003300"/>
                </a:solidFill>
                <a:latin typeface="Tahoma"/>
              </a:rPr>
              <a:t>di ricerca</a:t>
            </a:r>
            <a:endParaRPr b="0" lang="en-US" sz="66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3657600"/>
            <a:ext cx="4114800" cy="4132440"/>
          </a:xfrm>
          <a:prstGeom prst="diamond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Garamond"/>
              </a:rPr>
              <a:t>Fo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Garamond"/>
              </a:rPr>
              <a:t>Modalità di scrittu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Zampieron Alessand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FD568B5-5A30-4DF5-BE9C-2DBC5BE7DF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3300"/>
                </a:solidFill>
                <a:latin typeface="Tahoma"/>
              </a:rPr>
              <a:t>Modalità</a:t>
            </a:r>
            <a:br>
              <a:rPr sz="4200"/>
            </a:br>
            <a:r>
              <a:rPr b="1" lang="it-IT" sz="4200" spc="-1" strike="noStrike">
                <a:solidFill>
                  <a:srgbClr val="003300"/>
                </a:solidFill>
                <a:latin typeface="Tahoma"/>
              </a:rPr>
              <a:t>di citazione norme</a:t>
            </a:r>
            <a:endParaRPr b="0" lang="en-US" sz="4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Data di promulgazione, tipo e numero della norma, titolo completo, fonte, data di pubblicazion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Arial"/>
              </a:rPr>
              <a:t>D.M. Sanità 28 dicembre 1991 – Istituzione della scheda di dimissione ospedaliera. GU 17-1-1992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75247-FA35-4D76-A7DE-97B4216418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4267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3300"/>
                </a:solidFill>
                <a:latin typeface="Tahoma"/>
              </a:rPr>
              <a:t>Concludendo veramente</a:t>
            </a: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14040" y="3276720"/>
            <a:ext cx="7467480" cy="266688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Spero di avere stimolato una gioiosa curiosità per la letteratura infermieristica di ricerc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Ma ricordate che il piacere di leggere viene leggendo!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04920"/>
            <a:ext cx="4343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3300"/>
                </a:solidFill>
                <a:latin typeface="Tahoma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276720"/>
            <a:ext cx="7696080" cy="266688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00600" y="304920"/>
            <a:ext cx="388620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F8EEA02-5668-4BC5-8C58-02D979E582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66680" y="1295280"/>
            <a:ext cx="687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00"/>
                </a:solidFill>
                <a:latin typeface="Tahoma"/>
              </a:rPr>
              <a:t>Caratteristiche delle fonti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Recenti o classich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2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rima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2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umerose o comunque adeguate al tipo di ricerc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2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restigio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2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itazione di libri, articoli (consultazione data base),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mpieron Alessand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73BF8-D94B-4E88-B1AB-01C91D4CAE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700" spc="-1" strike="noStrike">
                <a:solidFill>
                  <a:srgbClr val="003300"/>
                </a:solidFill>
                <a:latin typeface="Tahoma"/>
              </a:rPr>
              <a:t>Recenti o classiche</a:t>
            </a:r>
            <a:r>
              <a:rPr b="1" lang="it-IT" sz="4700" spc="-1" strike="noStrike">
                <a:solidFill>
                  <a:srgbClr val="003300"/>
                </a:solidFill>
                <a:latin typeface="Tahoma"/>
              </a:rPr>
              <a:t> </a:t>
            </a:r>
            <a:br>
              <a:rPr sz="4700"/>
            </a:br>
            <a:endParaRPr b="0" lang="en-US" sz="47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iù recenti possibile (ultimi cinque anni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tilizzabili fonti “classiche” o contenenti informazioni storich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vitate fonti non pubblicate (appunti dalle lezioni e dispense vari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tilizzabili te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mpieron Alessand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F421E-031E-4352-89CC-4661334B80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3300"/>
                </a:solidFill>
                <a:latin typeface="Tahoma"/>
              </a:rPr>
              <a:t>Primarie</a:t>
            </a:r>
            <a:endParaRPr b="0" lang="en-US" sz="4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200400" cy="3200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Generalmente si preferiscono fonti primarie a quelle secondarie (fonti manipolate o tradotte dalla lingua originale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62440" y="2793960"/>
            <a:ext cx="3695760" cy="263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473EB-3B5C-4671-867D-790E6A1BCE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700" spc="-1" strike="noStrike">
                <a:solidFill>
                  <a:srgbClr val="003300"/>
                </a:solidFill>
                <a:latin typeface="Tahoma"/>
              </a:rPr>
              <a:t>Numerosa o comunque adeguata</a:t>
            </a:r>
            <a:br>
              <a:rPr sz="4700"/>
            </a:br>
            <a:endParaRPr b="0" lang="en-US" sz="47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La quantità e la qualità della bibliografia selezionata può essere molto variabile: si va da una bibliografia base essenziale, ad una bibliografia ragionata, dettagliata e molto vasta. L’analisi bibliografica deve però essere completa, sistematica, critic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mpieron Alessand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FB472-A9C2-49C8-818D-BD1207DE63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700" spc="-1" strike="noStrike">
                <a:solidFill>
                  <a:srgbClr val="003300"/>
                </a:solidFill>
                <a:latin typeface="Tahoma"/>
              </a:rPr>
              <a:t>Prestigiose</a:t>
            </a:r>
            <a:br>
              <a:rPr sz="4700"/>
            </a:br>
            <a:endParaRPr b="0" lang="en-US" sz="47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Il prestigio può derivare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Dall’autor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Dalla rivist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Dalla casa editric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mpieron Alessand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3A520-8E44-41BC-A0D5-86109ABA01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700" spc="-1" strike="noStrike">
                <a:solidFill>
                  <a:srgbClr val="003300"/>
                </a:solidFill>
                <a:latin typeface="Tahoma"/>
              </a:rPr>
              <a:t>Libri, articoli (data base), Internet</a:t>
            </a:r>
            <a:endParaRPr b="0" lang="en-US" sz="47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Composta da tutti e tre i tipi di font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Libri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anoramica generale o specifica sul tema. Svantaggi: pur recenti, sono già data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Index di riviste, rapporti o sintesi.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Vantaggio: forniscono conoscenze  recen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Internet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asto ma molto aggiornato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479840" y="276372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DFE1A-2CDE-4C17-A805-ECDA770A46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00"/>
                </a:solidFill>
                <a:latin typeface="Tahoma"/>
              </a:rPr>
              <a:t>Modalità di citazione articoli da riviste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38400" indent="0" algn="just">
              <a:lnSpc>
                <a:spcPct val="105000"/>
              </a:lnSpc>
              <a:spcBef>
                <a:spcPts val="10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38400" indent="-228600" algn="just">
              <a:lnSpc>
                <a:spcPct val="95000"/>
              </a:lnSpc>
              <a:spcBef>
                <a:spcPts val="10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utori (tutti, se il numero è superiore a sei farlo seguire da "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" o "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e col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"), titolo, nome della rivista (anche nella forma abbreviata codificata da Index Medicus), data di pubblicazione (anno, eventualmente mese), numero del volume, numero del fascicolo, pag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38400" indent="-228600" algn="just">
              <a:lnSpc>
                <a:spcPct val="95000"/>
              </a:lnSpc>
              <a:spcBef>
                <a:spcPts val="10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Woodcock S. Perché le infermiere nefrologiche si focalizzano sui problemi della compliance quando lavorano nel settore di ED riabilitativa? EDTNA-ERCA J., Gennaio-Marzo 1999;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XV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1): 30-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4CE57-6138-490F-8F78-3FF8832498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00"/>
                </a:solidFill>
                <a:latin typeface="Tahoma"/>
              </a:rPr>
              <a:t>Modalità di citazione libri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10000"/>
                </a:solidFill>
                <a:latin typeface="Arial"/>
              </a:rPr>
              <a:t>Autori, titolo, volume o numero dell’edizione, titolo del capitolo e l’autore (se i capitoli sono scritti da autori diversi), casa editrice e città (o vicerversa), anno di pubblicazione, pag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10000"/>
                </a:solidFill>
                <a:latin typeface="Arial"/>
              </a:rPr>
              <a:t>ANNA. Core curriculum for nefrology nursing (2a Ed.). A.J.Giannetti Inc., Pitman, 199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10000"/>
                </a:solidFill>
                <a:latin typeface="Arial"/>
              </a:rPr>
              <a:t>Baer CL. Principles of patient education. In: ANNA. Core curriculum for nefrology nursing (2a Ed.). A.J.Giannetti Inc., Pitman, 199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26FBC-1F4A-429C-B0F3-088ECEB977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11:27:56Z</dcterms:created>
  <dc:creator>Zampieron Alessandra.</dc:creator>
  <dc:description/>
  <dc:language>en-US</dc:language>
  <cp:lastModifiedBy>Zampieron Alessandra.</cp:lastModifiedBy>
  <dcterms:modified xsi:type="dcterms:W3CDTF">1999-08-12T10:59:58Z</dcterms:modified>
  <cp:revision>7</cp:revision>
  <dc:subject/>
  <dc:title>La bibliografia</dc:title>
</cp:coreProperties>
</file>