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45C-9FD9-4C7C-B820-D3D5C650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210-AF43-4DE6-9C76-28671187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028-5A4C-4222-8AFC-405E31F3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7A1-A5A6-4A98-BCF4-A8513669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F5D2-FA72-464E-BF26-CCC23CCD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4B5F-9A84-4A8D-BFD2-063F48D8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2901-7165-482B-B344-AFF58F5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D081-9DD7-4A46-990D-236C9C4F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89CE-E7EA-49EB-9276-932B2F35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1F18-CD12-4399-89A4-98C375AB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985C-17BE-4062-A6FB-60D4CCC1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FAA-FA7C-4DAF-AC6C-37B514D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7AD6-A68A-436D-A1AE-858A7E1C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A4D4-1620-43C6-9702-4D017BE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4331-11A2-44AA-8A31-9A678CB5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86D9-05EB-46F7-B3B0-0556D51C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60A6-52D8-49C9-99EB-CD240E97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ACC-8BDB-4AC0-9EE1-02C82E53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290-78B2-4F9F-A2C1-D9B4916C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597-42F9-4BE2-997A-5D9DAAEB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983-2EBB-4F03-B4B2-FB738B8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62A-7140-4BCD-8276-57DD0952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7DE-F4EE-48AB-8F75-97BC4962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D3B-55E9-42CB-88C4-1A733CC5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33ccc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1C0-F830-47B7-8623-9BBF3B49E6EA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C8E1-D72C-41DD-9CEC-CF47E69A131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33ccc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5663-485E-48F7-893F-E0191C3DF28E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5F37-9360-4F09-B540-3BB86F9A961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66"/>
                </a:solidFill>
                <a:latin typeface="Tahoma"/>
              </a:rPr>
              <a:t>I risultati</a:t>
            </a:r>
            <a:br>
              <a:rPr sz="4800"/>
            </a:br>
            <a:r>
              <a:rPr b="1" lang="it-IT" sz="4800" spc="-1" strike="noStrike">
                <a:solidFill>
                  <a:srgbClr val="000066"/>
                </a:solidFill>
                <a:latin typeface="Tahoma"/>
              </a:rPr>
              <a:t>della</a:t>
            </a:r>
            <a:br>
              <a:rPr sz="4800"/>
            </a:br>
            <a:r>
              <a:rPr b="1" lang="it-IT" sz="4800" spc="-1" strike="noStrike">
                <a:solidFill>
                  <a:srgbClr val="000066"/>
                </a:solidFill>
                <a:latin typeface="Tahoma"/>
              </a:rPr>
              <a:t>ricerca</a:t>
            </a:r>
            <a:br>
              <a:rPr sz="4800"/>
            </a:br>
            <a:r>
              <a:rPr b="1" lang="it-IT" sz="4800" spc="-1" strike="noStrike">
                <a:solidFill>
                  <a:srgbClr val="000066"/>
                </a:solidFill>
                <a:latin typeface="Tahoma"/>
              </a:rPr>
              <a:t>e la</a:t>
            </a:r>
            <a:br>
              <a:rPr sz="4800"/>
            </a:br>
            <a:r>
              <a:rPr b="1" lang="it-IT" sz="4800" spc="-1" strike="noStrike">
                <a:solidFill>
                  <a:srgbClr val="000066"/>
                </a:solidFill>
                <a:latin typeface="Tahoma"/>
              </a:rPr>
              <a:t>discussione (commento)</a:t>
            </a:r>
            <a:endParaRPr b="0" lang="en-US" sz="4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19076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F13526-4DB9-4BC6-AE06-78D6E612F1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Tahoma"/>
              </a:rPr>
              <a:t>Quali risultati vengono esposti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ati generali sul campione (per esempio, anagrafici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I principali, coerenti con gli obiettivi della ricerca. Rispondono alle ipotesi e domande di ricerca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I collaterali: risultati non previsti, ma comunque interessanti, senza troppa enfasi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5E58-AB3D-4AE0-9662-6DA63F81B9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66"/>
                </a:solidFill>
                <a:latin typeface="Tahoma"/>
              </a:rPr>
              <a:t>Grafici e tabelle</a:t>
            </a: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556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Devono ess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2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mpli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2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mmediatamente interpretabi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2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nza ridondan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2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 didascalia, numero di identificazione nel testo, titoli di righe e colonne, no abbreviazio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304812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DA5E4-8264-49A4-B53C-DB4368528A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66"/>
                </a:solidFill>
                <a:latin typeface="Tahoma"/>
              </a:rPr>
              <a:t>Discussione (Commento)</a:t>
            </a: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Interpretazione dei risultati (deve essere chiara la distinzione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e affermazioni devono essere esplici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e interpretazioni devono essere giustifica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Far emergere i </a:t>
            </a:r>
            <a:r>
              <a:rPr b="0" lang="it-IT" sz="3000" spc="-1" strike="noStrike">
                <a:solidFill>
                  <a:srgbClr val="000066"/>
                </a:solidFill>
                <a:latin typeface="Tahoma"/>
              </a:rPr>
              <a:t>limiti della ricerca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EB7A8-CAF5-4C5B-A7B2-B765434550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66"/>
                </a:solidFill>
                <a:latin typeface="Tahoma"/>
              </a:rPr>
              <a:t>Un esempio...</a:t>
            </a: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Studio sull’uso di un’immobilizzatore quale mezzo per ridurre l’incidenza delle infezioni sul sito di uscita dei pazienti in CAP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sultato principale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In un periodo di 346,8 mesi… in 66 pazienti sono state riscontrate 24 infezioni sul sito di uscita... Ci sono state 7 infezioni nel gruppo con immobilizzatore, 7 in quello con cerotto e 10 in quello di controllo… non significa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sultato secondario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In 10 casi l’organismo in causa è stato lo Stafilococco Aureo…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E94D6-BA29-4981-9762-A6F66E4BE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66"/>
                </a:solidFill>
                <a:latin typeface="Tahoma"/>
              </a:rPr>
              <a:t>Un esempio… (2)</a:t>
            </a: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3400" y="2282760"/>
          <a:ext cx="7777080" cy="37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2282760"/>
                    <a:ext cx="777708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447920" y="1828800"/>
            <a:ext cx="716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Figura 1: Tabella riassuntiva</a:t>
            </a:r>
            <a:r>
              <a:rPr b="0" lang="it-IT" sz="4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FDF2C-A878-4F27-BDF0-5F5137137A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66"/>
                </a:solidFill>
                <a:latin typeface="Tahoma"/>
              </a:rPr>
              <a:t>Un esempio… (3)</a:t>
            </a:r>
            <a:endParaRPr b="0" lang="en-US" sz="4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Discussione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Questi risultati anche se non sono significativi al livello 0,5 indicano una tendenza verso un aumento delle infezioni nei cateteri non immobilizzati e nei portatori di St. A. Il metodo dell’immobilizzazione continuerà ad essere il cerot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Limite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campione ridotto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mpieron Alessand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8BC8D-80C9-4ED4-9709-17E96CC957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1:19:38Z</dcterms:created>
  <dc:creator>Zampieron Alessandra.</dc:creator>
  <dc:description/>
  <dc:language>en-US</dc:language>
  <cp:lastModifiedBy>Zampieron Alessandra.</cp:lastModifiedBy>
  <dcterms:modified xsi:type="dcterms:W3CDTF">1999-08-12T10:46:48Z</dcterms:modified>
  <cp:revision>3</cp:revision>
  <dc:subject/>
  <dc:title>I risultati  La Discussione (Commento)</dc:title>
</cp:coreProperties>
</file>