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AF13-DE94-4BDD-BA76-6DC1E4DAE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61D8-5482-4852-91BD-60F6E49F0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A9AE-71E5-4BD5-A121-8CB3C65A9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35C1-20A1-437F-8A6D-DEE002E4B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0F580-B654-4281-AB88-1E5B007F5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FFA21-13F0-4A58-80FC-60F342EAC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950FF-B304-4898-927E-92F3D166D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C79AD-441B-4E91-9778-40F422D37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169D1-CFC7-4E81-9B4C-FBBC9CAE9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A2B8A-EBFA-4247-B953-6380945C3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08E86-1DD5-4AB0-9BBA-00B049BC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5BFD-8266-4DAF-9382-07039AFA8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CD3DB-0A12-4C28-8AE3-F7907C61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A5D68-F646-441D-84F3-7C9A5DB2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B161A-A53A-4E93-8B09-7C9D23118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6F63E-01A9-46AF-AB8C-5D461421B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54896-58E2-46B8-9E0D-7B4523C8A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C879-7727-4137-AA25-F2D1DFBE1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CD33-5346-4E78-8056-FEE29222F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BEC5-2FB8-4AE9-9551-58DE68751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FF08-7FB3-410F-8410-14FBE715F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9B59-8E7B-47FD-BA94-8B91B211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1908-4E52-4AFD-9A28-D7C03299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A182-DD33-4BEC-9BCD-5638A8EB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ff99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2ABE5-D834-4FF5-A09E-6DA61DF752B5}" type="datetime">
              <a:rPr b="0" lang="it-IT" sz="1400" spc="-1" strike="noStrike">
                <a:solidFill>
                  <a:srgbClr val="000000"/>
                </a:solidFill>
                <a:latin typeface="Tahoma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C563A-065D-42A5-BABE-E5D172CCB93B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ff99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8DE1E-4A2C-42E9-A949-DD9609FAA3E3}" type="datetime">
              <a:rPr b="0" lang="it-IT" sz="1400" spc="-1" strike="noStrike">
                <a:solidFill>
                  <a:srgbClr val="000000"/>
                </a:solidFill>
                <a:latin typeface="Tahoma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4828A-B005-4513-8089-BFDD65A85175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lnSpc>
                <a:spcPct val="75000"/>
              </a:lnSpc>
              <a:spcBef>
                <a:spcPts val="675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85840" y="2514600"/>
            <a:ext cx="5257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0" spc="-1" strike="noStrike">
                <a:solidFill>
                  <a:srgbClr val="6600cc"/>
                </a:solidFill>
                <a:latin typeface="Tahoma"/>
              </a:rPr>
              <a:t>Conclusioni</a:t>
            </a:r>
            <a:endParaRPr b="0" lang="en-US" sz="6000" spc="-1" strike="noStrike">
              <a:solidFill>
                <a:srgbClr val="6600cc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3353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Zampieron Alessand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9E4735A3-4ABF-44D1-A7EA-40A4F51CFDE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66680" y="1295280"/>
            <a:ext cx="687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200" spc="-1" strike="noStrike">
                <a:solidFill>
                  <a:srgbClr val="6600cc"/>
                </a:solidFill>
                <a:latin typeface="Tahoma"/>
              </a:rPr>
              <a:t>Contenuti</a:t>
            </a:r>
            <a:endParaRPr b="0" lang="en-US" sz="4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543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3000" spc="-1" strike="noStrike">
                <a:solidFill>
                  <a:srgbClr val="000000"/>
                </a:solidFill>
                <a:latin typeface="Tahoma"/>
              </a:rPr>
              <a:t>Nella parte conclusiva di un articolo si trovano: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22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Le implicazioni per la pratica clinica, l’organizzazione, la formazione e la possibilità di usare i risultati (anche quelli  collaterali)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ampieron Alessand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31D233-C3AD-43AC-ACA3-6E5564A37BB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200" spc="-1" strike="noStrike">
                <a:solidFill>
                  <a:srgbClr val="6600cc"/>
                </a:solidFill>
                <a:latin typeface="Tahoma"/>
              </a:rPr>
              <a:t>Alcuni esempi...</a:t>
            </a:r>
            <a:endParaRPr b="0" lang="en-US" sz="4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2361960"/>
            <a:ext cx="83818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it-IT" sz="2800" spc="-1" strike="noStrike">
                <a:solidFill>
                  <a:srgbClr val="000000"/>
                </a:solidFill>
                <a:latin typeface="Tahoma"/>
              </a:rPr>
              <a:t>Lo stato di SANCS nei pazienti in CAPD è indotto o favorito dall’R-H-eritropoietina sottocutanea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oncludiamo che è necessario controllare periodicamente lo stato di portatore nasale dello S. Aureo nei pazienti in CAPD, soprattutto nelle donne…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ampieron Alessand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3AB6FC-D929-41F2-BD0D-271B12E86F0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200" spc="-1" strike="noStrike">
                <a:solidFill>
                  <a:srgbClr val="6600cc"/>
                </a:solidFill>
                <a:latin typeface="Tahoma"/>
              </a:rPr>
              <a:t>Alcuni esempi… (2)</a:t>
            </a:r>
            <a:endParaRPr b="0" lang="en-US" sz="4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040" y="152352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it-IT" sz="2400" spc="-1" strike="noStrike">
                <a:solidFill>
                  <a:srgbClr val="000000"/>
                </a:solidFill>
                <a:latin typeface="Tahoma"/>
              </a:rPr>
              <a:t>Lavoro e dialisi: uno studio investigativo dei pazienti e datori di lavor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“…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ottolineando la necessità di un intervento precoce per massimizzare le possibilità individuali di mantenere l’impiego pre-dialisi. I risultati di questo studio suggeriscono: precoce valutazione dell’ambiente di lavoro… estrema considerazione del lavoro nella scelta della modalità dialitica… iniziazione precoce della terapia dialitica quando appropriato, per prevenire i gravi sintomi uremici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322122-9E22-4F66-A39D-BCFF34A5EAB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0T11:23:39Z</dcterms:created>
  <dc:creator>Zampieron Alessandra.</dc:creator>
  <dc:description/>
  <dc:language>en-US</dc:language>
  <cp:lastModifiedBy>Zampieron Alessandra.</cp:lastModifiedBy>
  <dcterms:modified xsi:type="dcterms:W3CDTF">1999-08-12T10:49:55Z</dcterms:modified>
  <cp:revision>3</cp:revision>
  <dc:subject/>
  <dc:title>Conclusioni</dc:title>
</cp:coreProperties>
</file>